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4E6-608E-414E-9780-7A9EA789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6C6-56C1-4A5C-8A36-9B8EC7D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DC3-1C37-4F08-ACDE-78033E36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3C1-9060-44B8-968C-2207820D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11C-4A78-47F7-B50A-7E138C26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758-3AA9-4583-85CB-7B899A8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BBA-F286-4A5E-AE82-6FEBAF55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398-867E-4F46-AC1C-29F6EDBC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447-C632-4A88-BBB4-52EDEAD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0FD-B9FE-450B-84A1-1623BD44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BE8-C151-4F27-BD2A-A808AF7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A4B-3F00-457B-A1EC-610799C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F60-9824-45B1-ACDA-72C712CD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ry l’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8b4afbc7836caa7_gary-from-spongebob-squarepants"/>
          <p:cNvPicPr/>
          <p:nvPr/>
        </p:nvPicPr>
        <p:blipFill>
          <a:blip r:embed="rId1"/>
          <a:stretch/>
        </p:blipFill>
        <p:spPr>
          <a:xfrm>
            <a:off x="2819520" y="2286000"/>
            <a:ext cx="3409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 Gary l’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ry se réveille dans un an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res lever, Gary mange de la nourriture escarg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ry va pour une promenade avec Spongebob.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 Gary dans apres-mi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rendre un d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 un douche, Spongbob a laver un coquille de G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, Gary a laver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olon et Clarin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, dans apres midi, Gary joue son vi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192420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09480" y="276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, Gary joue son clarinette avec Squidward dans son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97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n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nuit, Spongebob et Gary aller a le Crab Croustillant pour le d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t le quitter ils ananas, Gary se peigner Sponge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sont besoin de se depcher pour leur reser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n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arrive a part de le diner a Crab Croustil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e le suit, Gary laver la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 laver le figure, Gary laver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Gary se cou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1:08Z</dcterms:created>
  <dc:creator>licencetho</dc:creator>
  <dc:description/>
  <dc:language>en-US</dc:language>
  <cp:lastModifiedBy>licencetho</cp:lastModifiedBy>
  <dcterms:modified xsi:type="dcterms:W3CDTF">2012-03-14T14:05:49Z</dcterms:modified>
  <cp:revision>8</cp:revision>
  <dc:subject/>
  <dc:title>Gary l’escargot</dc:title>
</cp:coreProperties>
</file>